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pct" ContentType="image/x-pict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4273C-43D9-4C63-B46D-83D2A80DE9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A5846-C009-44D1-BE48-69C4D8E42F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2DC5-6A03-4206-AA49-C59967E773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BAF5-3594-4EB3-B5CE-C01AB6C21D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E6503-1638-4886-B26F-172F662EC2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D448A-64F4-4571-9414-47166EA66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6ACF2-06F5-4826-81B0-ACB873BBE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F132B-3CB2-4896-914A-9F8980D04B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C743C-541F-4DDC-A5B9-5E865B9AD0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7DD52-2BA9-4399-86D9-7EC1D7D747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161F9-7290-4E8E-ACA0-0D08DAE744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5934-128E-4DDF-BB6E-9C6F7F909D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939A4-6A5F-4B9C-9365-193F283967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4F7-740E-46A8-9F78-67BE83D6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595-BB8D-48F1-9835-97EB6D5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FED3A-3057-4C14-88F7-7C803BAA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0BA2C-6888-4744-A189-E57DEF8B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12CBC-0297-4D80-8552-D4B6A21A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4B3C1-DCC0-423B-98BB-804D763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3ED07-5A70-49FE-8136-BCE6BF64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A384B-1349-48E4-B149-932F2270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225B-A58D-4A4B-9452-510F44AE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A56E4-AA3F-49FC-8605-A9C86F77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8774B-EE95-4736-956A-9C95BD89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D54-A35C-4F2D-B323-5AC5E700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11C-0EF1-428E-BFD8-D30C0D55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428C-7FCD-453B-ACDD-9BFDF88D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542-10E6-40DE-A9A8-3532EE22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B1EC-4916-4F55-8A9F-6C48633A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A6A-51FD-48A4-922D-590A48AD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F369-1826-4DE1-8411-A2608C27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22DA-11CB-49B9-810B-DA7E704E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5221-E019-4BBE-9436-1FBC987D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CA2-299C-418A-8408-431BD2C5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FB2E-3C63-4BEB-8AAA-8B46F45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4D50-5145-41F3-AFDE-10756CED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A859-0C9F-43D5-BCF5-13B07871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8781-F718-442A-A699-99929BE2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9A16-44FC-4B78-A5E9-78B880F8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757D-36F4-474B-BD76-2E378F8D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9180A-022E-4144-B44A-846F150B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37EA3-C97E-43BE-A45D-1AF21445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40B4-8950-4E76-B1DF-78884DAE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8DB37-2C38-4F14-B783-E2E2EC09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1632-9160-4A88-AEB3-F4C413C2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C73D0-6CFE-4A1A-8752-B7C7339C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6FC7-7A94-4016-AE02-6AEB9767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9B6B-EB53-486F-9051-87F250A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BAEF-1CB4-4307-8561-2D433052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2C549-65E7-43A3-A445-6ACD5C90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1490-5E15-4B74-B151-912FB2EE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E4431-FC70-4CD5-9A17-685AEFC7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13C2-1E17-44CE-89A7-ABBCBA61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0078A-4C55-4D14-95AC-56DE7FEB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E4010-DB8E-4832-A7CA-ABBFD30E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FE9-FF7C-4832-9121-DD1F4C16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D105-74DB-429A-AA33-6EBAD55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E65FC-6D5B-4DDD-A076-E702A869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0642-2DAA-4171-A738-06A13DB8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02A5-9C25-4FB0-AA1E-EF6316A4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DC8C-E52B-4B92-8874-7D08441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32F1-C966-463E-B9D1-EAD276E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D985-AA05-410D-A297-53FB544B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66900-5BDA-4EF5-8AC0-04DA8BBD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1C77-8F0F-4809-8F36-169A7C73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11A83-E3C1-4FE1-9FD8-FC2926EF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5DD-7C78-4FA8-848F-E7238112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1E351-FC3C-46A2-9B79-076BB264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3B410-3576-45BF-9F4B-05ACB079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80BEC-6402-4CE0-9D66-95A55F6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AC21-8884-420E-AD06-D80A5396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A830E-812C-44E3-ACBD-04E0A132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74F0C-08F2-4738-A7B6-1A67F8C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9303-5F95-4E50-83D4-3F9C060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866C-934C-428C-8D76-9BB66EBE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50F3-C301-4E6B-B06F-8711A31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4448B-B8E5-4AA0-A88A-CE4E0721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F22-6E86-4567-85A9-220A1563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C40F-5323-4C4B-846F-20DCCC46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06101-741E-4AA2-8785-EC486176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ED567-3803-4EC7-9D91-49713531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4729A-C6B3-4F5B-8C13-F6370717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0170-704D-43FD-9C01-3814AE9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5002C-0741-4E6D-BA5C-67E0AC1A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BDEA6-30D2-409E-9BFF-FEEF8217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A7A7B-CD9C-4DA2-883C-28064EFF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52013-FE64-4FF3-9926-4F433D04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D9585-50B6-4A74-BF3A-A9241D6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C797-62C4-4535-9A94-48304FBA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FC4B9-9D6F-4831-A5B2-1D90C2A2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1E25-1A73-4FCA-82F7-9CD7B04C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857F8-7050-4AAE-843D-FA3B262E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ED00-3E5C-4446-9D42-22CC28A9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D3A23-637A-4147-B517-3F93B7B7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D2C0F-4B06-4D53-83AB-13DBEAB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575F0-B2CB-48D8-9600-E7449EA4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CD462-B250-4BAC-B851-43C1F2E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A0478-B7B7-4E55-9753-E47B1333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C4FA4-DDAB-497C-AF7B-732D7D2B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B0B-AABC-48F1-BB50-A3E0641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5471B-F786-4319-8010-599A7E82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CB97-8249-4D91-B868-D3D3FF5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26450-5907-4423-8104-7FBC390B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1F6F8-452F-4704-B574-8CB03581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2872-DA07-4CAA-A762-C08D979D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5F14-FB94-41FB-8273-9FFE46E7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380A3-C683-4637-8821-5F4D447B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36C87-42E9-42ED-9F33-86EFF09B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62D7F-7ABD-4503-9089-A69C92F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3862F-75D3-4E9A-AD32-2DB296D0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E80-73D3-4E11-9E58-5E90918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B9BD7-3E55-491A-944C-FB9D6CBE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9E362-8A67-4DDC-B5C4-53FCA52E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23B0F-39CB-4AA2-9C95-7560DAC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558B3-51A6-41C6-848F-E6283A8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978D-B5CF-4447-AFA2-8BC93B0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97154-84D8-4CF3-92A4-CE0721B6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D26C2-ED61-4E82-8FB0-BA3EF1E9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AC02E-BC87-4879-A350-A13DA077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BE187-CC1B-4B69-B6D3-1B154DDC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E569F-15C7-46BF-AB4C-66D12EA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E2821-D418-4BA6-BB8E-DC19C52D4948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3682E2-53A5-4E86-83F4-90F88F5E4063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CA62E-8ECC-4629-8F1E-063CD471D4A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A9793-AF8F-4A80-9FA0-3F189678AF44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96065-F41F-4ECE-83EC-C6B2F96B53F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ECE23-CC99-4C0A-AE09-ED3B839CD92A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3561B-CCB9-4503-8CCB-7ED570F2061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1F009-43AB-4694-94E1-F8E37FEB979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9597E-8F75-4819-997A-2F7D2E42C577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F8876-FFD0-4681-BDB9-8980B2AC028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8631F-D5CE-4197-AEEB-A370CF0A930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9082080" cy="1280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968120" y="498600"/>
            <a:ext cx="599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isIt Update (Hank’s p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503280" y="1768320"/>
            <a:ext cx="90723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oject is doing very we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here is an upcoming slide on partn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ch more like an open source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VN repo at LBL through SciDAC Outreach Cen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iling lists at ORN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~200 people on users li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itusers.org Wi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Wiki for developers and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utorials (at SciDAC conf, Snowbird, PPP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0800" y="380880"/>
            <a:ext cx="9411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kely upcoming features in the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380880" y="1569960"/>
            <a:ext cx="90727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oincare pl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tegration of FastB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Trails (?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on-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Q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 Pyth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opefully more for in-situ, multi-res, and time-varying d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+ a lot mor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167760"/>
            <a:ext cx="907272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VisIt has a rapidly growing developer community.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680392" t="1246919" r="1751337" b="766947"/>
          <a:stretch/>
        </p:blipFill>
        <p:spPr>
          <a:xfrm>
            <a:off x="8121600" y="4116240"/>
            <a:ext cx="1959120" cy="34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4d4d6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888240" cy="4681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948120"/>
            <a:ext cx="2016000" cy="218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C /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Brugger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leen B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us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687760"/>
            <a:ext cx="18478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3260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64120" y="4619520"/>
            <a:ext cx="2016360" cy="12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OR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3505320"/>
            <a:ext cx="23878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C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G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iver Ru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ard D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2819520"/>
            <a:ext cx="21841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 Str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16000" y="6132600"/>
            <a:ext cx="20163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NEP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Br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64360" y="4200480"/>
            <a:ext cx="2016360" cy="92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 Whe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S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64360" y="5880240"/>
            <a:ext cx="2016360" cy="92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ien Vivodt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5880240"/>
            <a:ext cx="2016360" cy="142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ison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679400"/>
            <a:ext cx="184788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B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32120" y="210024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Galbr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76960" y="361152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y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3880" y="6551640"/>
            <a:ext cx="2016360" cy="100800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DRD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L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16000" y="5375160"/>
            <a:ext cx="2016360" cy="75744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il $ to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Br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662360"/>
            <a:ext cx="2268360" cy="67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CDavis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28120" y="2940120"/>
            <a:ext cx="2016000" cy="5871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H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Fo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2960" y="3527280"/>
            <a:ext cx="1679760" cy="5889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T (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 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1511280"/>
            <a:ext cx="3024000" cy="134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re partnerships coming soon (NS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ontributions from people not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0" y="1538640"/>
            <a:ext cx="9072720" cy="57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495680"/>
            <a:ext cx="4092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AB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2920" y="1767960"/>
            <a:ext cx="9402840" cy="5461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0M cells*100 layers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2920" y="176832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 (for single file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NL User</cp:lastModifiedBy>
  <dcterms:modified xsi:type="dcterms:W3CDTF">2008-10-22T12:52:41Z</dcterms:modified>
  <cp:revision>19</cp:revision>
  <dc:subject/>
  <dc:title>Slide 1</dc:title>
</cp:coreProperties>
</file>